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DC6E-314A-4E14-A9B1-1CB122D4A0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A077-EB8A-42CB-A3FD-CFEA9565DA7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BDA-B8C5-466C-9659-6D4B1C2D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35B-489A-4821-BB3C-545928D0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255-91F6-49EB-8CB7-215C892E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453-F3F6-411E-9374-FDA7E87E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6FD3-1F36-44AA-A58C-D153DACA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23B2-92E5-4100-8144-87E5F6EC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04C6-BF76-44F2-A0F6-F0AAB52F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7E48-C0CC-4778-8EE8-30004DDB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8577-50BB-462D-9229-FACC9205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6141-E4AE-4061-831E-8CE9D53E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94C1-2F23-427A-BA9B-81A2B596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895-0A09-41CA-AE22-0DA7D8BB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AC50-1D47-4CE4-AC15-7A38B428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DF2C-A47B-41E4-B283-C69CE483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D420-2085-40BB-A4F9-2783CB39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5A0F-49D7-4C7E-9ED9-9EFC0783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53A9-320F-4B69-8DBF-DC4D5579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076-134D-413E-9F1F-D1A0F7FA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24F1-6F89-4171-9847-5C7661B3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43F-B507-4297-9D96-F53AB21F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DE3-040B-4284-ACE8-B7CBB79A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F1D-B358-45CE-9DA9-C4AB8B70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21D-9547-4016-B0F6-2AF223EA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980C-F922-461C-A26D-23000654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6C06-69C4-48C7-9558-0643875D9F9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73CF-5556-440F-8521-AADDB748CB8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4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28240" cy="125568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6" descr="j0282886.gif"/>
          <p:cNvPicPr/>
          <p:nvPr/>
        </p:nvPicPr>
        <p:blipFill>
          <a:blip r:embed="rId2"/>
          <a:stretch/>
        </p:blipFill>
        <p:spPr>
          <a:xfrm>
            <a:off x="1785960" y="1797120"/>
            <a:ext cx="57862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послевоенный период клуб стал одним из первых, применивших практику регулярных международных товарищеских встреч (Албания — 1946 и 1951 гг., Норвегия — 1950 г., а в 1953 г. — 14 игр против серьезных соперников: Чехословакия, Швеция, Венгрия, Румыния, Австрия, Польша, Болгария и Албания, 1954 г. — 21 игра с иностранными командами), что позволило всему советскому футболу получить и применять опыт европейских клубов в своей игровой практике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клад ФК «Спартак» в историю успеха российского футбола на международной арене спорта подтверждается и тем, что в 1956 г. советская сборная одержала победу на Олимпийских играх в Мельбурне, что стало триумфом советского футбола, заставившего весь мир обратить внимание на высокий уровень этого вида спорта в нашей стране. При этом стоит отметить, что в составе советской сборной того периода было десять игроков ФК «Спартак»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1966 г. ФК «Спартак» провел первый в истории советского футбола матч в зачет официальных международных соревнований — Кубок обладателей кубков, а в 1971 году спартаковцы стали пионерами в другом международном турнире — Кубке УЕФ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протяжении всей советской футбольной истории ФК «Спартак» являлся одним из лидеров чемпионата СССР, игроки клуба становились кумирами молодежи, а результаты игры на международной арене привлекали к футболу все новых и новых болельщиков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К «Спартак» стал первой командой России, которая в 1990-х годах на постоянной основе участвовала в европейских футбольных турнирах и добивалась на них определенных успехов. Основными достижениями клуба на международной футбольной арене в российский период стали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чемпионов в сезон 1990—1991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кубков сезона 1992—1993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УЕФА сезона 1997—1998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а на Кубке Анталии в 2002 году («Эфес Пилсен Кап»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протяжении всей своей истории ФК «Спартак» оставался одним из лидеров советского и российского футбола, несмотря на периоды неудач, сумевшим сохранить игровой и волевой потенциал. История клуба и его заслуги заставляют всех соперников с особой тщательностью готовиться к будущим встречам с футболистами «Спартака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дним из основных стимулов к победам является неизменная поддержка футбольных болельщиков, разделяющих с командой как спортивный триумф, так и минуты неудач. Строительство собственного стадиона станет бесценным подарком не только для спортсменов, но и для болельщиков, которые без сомнения будут рады собственной спортивной арене, в стенах которой они с максимальной отдачей смогут поддерживать любимую команд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4" descr=""/>
          <p:cNvPicPr/>
          <p:nvPr/>
        </p:nvPicPr>
        <p:blipFill>
          <a:blip r:embed="rId1"/>
          <a:stretch/>
        </p:blipFill>
        <p:spPr>
          <a:xfrm>
            <a:off x="328680" y="1311120"/>
            <a:ext cx="8785080" cy="21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213[1].jpg"/>
          <p:cNvPicPr/>
          <p:nvPr/>
        </p:nvPicPr>
        <p:blipFill>
          <a:blip r:embed="rId1"/>
          <a:stretch/>
        </p:blipFill>
        <p:spPr>
          <a:xfrm>
            <a:off x="804960" y="353880"/>
            <a:ext cx="758988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Содержимое 3" descr="215[1].jpg"/>
          <p:cNvPicPr/>
          <p:nvPr/>
        </p:nvPicPr>
        <p:blipFill>
          <a:blip r:embed="rId1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3" descr="216[1].jpg"/>
          <p:cNvPicPr/>
          <p:nvPr/>
        </p:nvPicPr>
        <p:blipFill>
          <a:blip r:embed="rId1"/>
          <a:stretch/>
        </p:blipFill>
        <p:spPr>
          <a:xfrm>
            <a:off x="1428840" y="157176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Содержимое 3" descr="Аршавин_1.jpg"/>
          <p:cNvPicPr/>
          <p:nvPr/>
        </p:nvPicPr>
        <p:blipFill>
          <a:blip r:embed="rId1"/>
          <a:stretch/>
        </p:blipFill>
        <p:spPr>
          <a:xfrm>
            <a:off x="1428840" y="171468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Содержимое 3" descr="217_thumb[1].jpg"/>
          <p:cNvPicPr/>
          <p:nvPr/>
        </p:nvPicPr>
        <p:blipFill>
          <a:blip r:embed="rId1"/>
          <a:stretch/>
        </p:blipFill>
        <p:spPr>
          <a:xfrm>
            <a:off x="1285920" y="1500120"/>
            <a:ext cx="67863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Содержимое 3" descr="218_thumb[1].jpg"/>
          <p:cNvPicPr/>
          <p:nvPr/>
        </p:nvPicPr>
        <p:blipFill>
          <a:blip r:embed="rId1"/>
          <a:stretch/>
        </p:blipFill>
        <p:spPr>
          <a:xfrm>
            <a:off x="1285920" y="1643040"/>
            <a:ext cx="6643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russia_wins_sweden01.jpg"/>
          <p:cNvPicPr/>
          <p:nvPr/>
        </p:nvPicPr>
        <p:blipFill>
          <a:blip r:embed="rId1"/>
          <a:stretch/>
        </p:blipFill>
        <p:spPr>
          <a:xfrm>
            <a:off x="1643040" y="178596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3" descr="214[1].jpg"/>
          <p:cNvPicPr/>
          <p:nvPr/>
        </p:nvPicPr>
        <p:blipFill>
          <a:blip r:embed="rId2"/>
          <a:stretch/>
        </p:blipFill>
        <p:spPr>
          <a:xfrm>
            <a:off x="1071720" y="1643040"/>
            <a:ext cx="70005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8574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Лебедев Илья,5в класс, 10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 Йошкар-Ола, 2008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753400" cy="1158840"/>
          </a:xfrm>
          <a:prstGeom prst="rect">
            <a:avLst/>
          </a:prstGeom>
          <a:ln w="0">
            <a:noFill/>
          </a:ln>
        </p:spPr>
      </p:pic>
      <p:pic>
        <p:nvPicPr>
          <p:cNvPr id="129" name="!!! Самые неудачные моменты в футболе.wmv" descr=""/>
          <p:cNvPicPr/>
          <p:nvPr/>
        </p:nvPicPr>
        <p:blipFill>
          <a:blip r:embed="rId2"/>
          <a:stretch/>
        </p:blipFill>
        <p:spPr>
          <a:xfrm>
            <a:off x="928800" y="1571760"/>
            <a:ext cx="7392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5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5523120"/>
          </a:xfrm>
          <a:prstGeom prst="rect">
            <a:avLst/>
          </a:prstGeom>
          <a:ln w="0">
            <a:noFill/>
          </a:ln>
        </p:spPr>
      </p:pic>
      <p:sp>
        <p:nvSpPr>
          <p:cNvPr id="131" name="5-конечная звезда 2"/>
          <p:cNvSpPr/>
          <p:nvPr/>
        </p:nvSpPr>
        <p:spPr>
          <a:xfrm>
            <a:off x="6357960" y="25718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5-конечная звезда 3"/>
          <p:cNvSpPr/>
          <p:nvPr/>
        </p:nvSpPr>
        <p:spPr>
          <a:xfrm>
            <a:off x="1928880" y="25718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185256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8" descr="j0292476.wmf"/>
          <p:cNvPicPr/>
          <p:nvPr/>
        </p:nvPicPr>
        <p:blipFill>
          <a:blip r:embed="rId2"/>
          <a:stretch/>
        </p:blipFill>
        <p:spPr>
          <a:xfrm>
            <a:off x="2357280" y="1714680"/>
            <a:ext cx="6500880" cy="484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5" descr="0_9226[1].jpg"/>
          <p:cNvPicPr/>
          <p:nvPr/>
        </p:nvPicPr>
        <p:blipFill>
          <a:blip r:embed="rId2"/>
          <a:stretch/>
        </p:blipFill>
        <p:spPr>
          <a:xfrm>
            <a:off x="1357200" y="1643040"/>
            <a:ext cx="65008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2" descr=""/>
          <p:cNvPicPr/>
          <p:nvPr/>
        </p:nvPicPr>
        <p:blipFill>
          <a:blip r:embed="rId1"/>
          <a:stretch/>
        </p:blipFill>
        <p:spPr>
          <a:xfrm>
            <a:off x="762120" y="0"/>
            <a:ext cx="7600680" cy="957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999720"/>
            <a:ext cx="82580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вета команды: красно-белы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жние назван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2 - МКС (Московский Клуб Спорта)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3-1925 - "Красная Пресня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6-1930 - "Пищевики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1-1933 - "Дукат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4 - "Промкооперация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5-1988 - "Спартак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C 1989 - ФК "Спартак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снователь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ФИО: Старостин Николай Петрович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ата Рождения: 26.02.19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ата Смерти: 17.02.19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Место Рождения: Москв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Амплуа: Нападающи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Страна: Россия/СССР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Жизненный путь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: Выступал в московских клубах МКС (1922), "Красная Пресня" (1923 - 1925), "Пищевики" (1926 - 1930), "Промкооперация" (1931, 1934), "Дукат" (1932 - 1933), "Спартак" (1935 - 1936)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чемпионатах СССР сыграл 1 матч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сборной Москвы играл с 1926 по 1935 год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Чемпион РСФСР 1922, 1927, 1928, 1929, 1930, 1931 годов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ице-чемпион РСФСР 1924 года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сборной РСФСР играл с 1926 по 1931 год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Всесоюзной Спартакиады 1928, 1931, 1932, 1935 год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III рабочей Олимпиады в Антверпене и приза Всемирной выставки в Париже 1937 год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сборной СССР сыграл 6 неофициальных матч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ик Спартака (Москва) в 1936 году, с 1955 по 1964 годы, с 1967 по 1975 годы и с 1977 по 1995 годы. Ответственный секретарь (1935-1936) и председатель правления МГС Спартак (1937 - март 1942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ю Старостину присвоено звание заслуженного мастера спорта и героя социалистического труда. Он был награждён тремя орденами Ленина, орденами Дружбы народов и За заслуги перед отечеством 3ей степен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й Петрович человек, стоявший у истоков не только футбольной команды, но и всего российского спорта. Всех нас подкупала его демократичность, его доброта. Только в крайнем случае он употреблял власть, отчислял игрока из команды, но про этом не унижал человеческого достоинства, разговаривал по-отечески: ему никогда не была безразлична судьба, в которую вынужден вмешаться... Его доброта для любого может служить образцом отношения к душе. Не пропустил ни одной игры, ни одной поездки. (Никита Симонян, Футбол - только ли игра? (М., Молодая гвардия)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 же сказать в заключение? Да, наш Николай Петрович Старостин - один из основателей как общества, так и футбольной команды Спартак. Но всё, что сделано этим человеком, и то, что он продолжает делать, - всё это имеет далеко не местное спартаковское значение. Он яркий, колоритный представитель нашего советского значения. Словом, человек, всю свою жизнь посвятивший советскому спорту. (Лев Филатов, дело жизни - Спартак, 1971 год). По сей день болельщики "Спартака" приносили на матчи команды огромные транспоранты с фотографией Николая Петровича Старостина и с подписью "Он всё видит"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о выступлений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(18.04.22) МКС - 3КС 3-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официальный матч: приз открытия на кубок Б.А. Майтова (23.04.22) МКС - 3КС 5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Москвы в классе "Б" (30.04.22) МКС - КСО 3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Москвы в классе "А" (17.06.23) Красная Пресня - Динамо 3-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еждугородний матч (30.04.22) МКС - КСО 3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1960"/>
            <a:ext cx="4608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8584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вне Москвы (14.05.22) "..."(Ярцево) - МКС 0-1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еждународный матч (08.08.24) Пищевики - АИФ (Норвегия) 2-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СССР (29.05.36) Спартак - ЦДКА (Москва) 0-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Кубка СССР (24.07.36) Динамо (Воронеж) - Спартак 0-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европейского клубного турнира - Кубок Кубков (28.09.66) ОФК (Югославия) - Спартак 1-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остижения клуб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-кратный чемпион СССР: 1936 (осень), 1938, 1939, 1952, 1953, 1956, 1958,1962, 1969, 1979, 1987, 1989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-кратный серебряный призер Чемпионатов СССР: 1937, 1954, 1955, 1963, 1968, 1974, 1980, 1981, 1083, 1984, 1985, 199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-кратный бронзовый призер Чемпионатов СССР: 1936, 1940, 1948, 1949 1957, 1961, 1970, 1982, 1986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0-кратный обладатель Кубка СССР: 1938, 1939, 1946, 1947, 1950, 1958, 1963, 1965, 1971, 199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5-кратный финалист Кубка СССР: 1948, 1952, 1957, 1972, 198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-кратный чемпион России: 1992, 1993, 1994, 1996, 1997, 1998, 1999, 2000, 200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ребряный призер призер Чемпионата России 2005, 2006 год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ронзовый призер чемпионата России: 1995, 200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-кратный обладатель Кубка России: 1994, 1998, 200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6-кратный обладатель Кубка СНГ: 1993, 1994, 1995, 1999, 2000, 200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ЕЧ: 1990/9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ОК: 1992/9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убка УЕФА: 1997/98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Кубка Анталии (Efes Pilsen Cup): 200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се призы клуба и футболистов времен СССР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партаковцы - лучшие футболисты страны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вгений Ловчев - 1972 год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5320" y="285480"/>
            <a:ext cx="45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0" y="401040"/>
            <a:ext cx="7452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инат Дасаев - 1982 год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Фёдор Черенков - 1983, 1989 год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Приз имени Григория Федотова (для самой результативной команды): 1958, 1968, 1969, 1979, 1981, 1985, 1987, 1989, 1991 год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Интересные данны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в чемпионатах забил Никита Симонян - 135 мяч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Лучший бомбардир за сезон - Никита Симонян - 34 мяча в 1950 году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Лучший бомбардир за сезон - Андрей Мовсесян - 30 мячей в 1994 году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в одном матче забил Андрей Тихонов - 8, 02.10.93г. "Рекорду" Александров (счёт матча 8-0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игр в чемпионате страны провёл Сергей Чудин - 168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амый молодой игрок - Андрей Иванов. Сыграл 01.04.82г. против "Торпедо" Москва (2-1) в возрасте 14-и лет и 360 дн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амый возрастной игрок - Константин Рязанцев - более 38-и лет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было забито Спартаком в сезоне 1949-го года - 93 (второй показатель в истории чемпионатов СССР). 81 мяч был забит спартаковцами в 1993 году (лучший показатель первенств России). 83 в 1977-м году в первой лиге. А наименьшее число мячей - всего 12 - спартаковские голеодоры провели в первом чемпионате СССР, который состоял из 6-и встреч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Мирослав Ромащенко навечно вписал своё имя в историю московского Спартака, забив на 38 минуте 20 сентября 1997-го года в Ростове 3000-й гол спартаковцев в чемпионатах СССР, а затем России. 83 из них приходятся на турнир первой лиги (1977 год), 2 на золотой матч 1996 года с Аланией, 22 - на анулированные в разное время матчи (17, в частности, были забиты в неокончившемся чемпионате 1941 года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-й гол был забит 6 июня 1936 года во второй календарной игре первенства в ворота киевского Динамо. Отличился на 21-й минуте встречи Георгий Глазков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50-й гол забил Леонид Румянцев 6-го октября 1937 года в ворота московского Металлурга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00-й - Виктор Семёнов 1-го октября 1938 года в ворота всё того же Металлурга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500-й гол - Виктор Терентьев в ворота московского Локомотива 17 сентября 1949 года. Спартак победил со счётом 6-4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000-й гол забил Иван Мозер в матче с Тбилисским Динамо 25-го июля 1959 года. Юбилейным стал его второй гол в матче на 20-ой минуте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500-й - Генадий Логофет в ворота СКА Ростов 15-го сентября 1969 года. Матч закончился со счётом 4-0, Галимзян Хусаинов сделал хет-трик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000-й забил Эдгар Гесс 14 мая 1981 года в Лужниках в ворота алма-атинского Кайрата. Спартак победил 3-0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500-й гол забил Сергей Родионов 16-го марта 1990 года в "Олимпийском", в драматическом матче с ЦСКА. На 85-й минуте Родионов головой замкнул фланговый навес Карпина, сделав счёт 5-4 в пользу Спартака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3000 мячей были забиты 205-ю спартаковцами, в 34-х случаях были зафиксированы автогол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Три самых блистательных матча Спартака в официальных европейских турнирах были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. В добесковский период в 70-х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5 октября 1972 года. Мадрид, Испания. 25,000 зрител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Атлетико (Мадрид) - СПАРТАК 3-4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удья: Глекхнер (ГДР)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Голы: Редин(43,85), Пискарёв(56), Булгаков (75), Луис(77,пен.), Овехеро(83), Бекер(90). Папаев на 82 мин. не реализовал 11-метр. (выше ворот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остав Спартака:Дарвин, Логофет, Ольшанский, Ловчев, Абрамов, Зенков, Булгаков, Хусаинов, Пискарёв, Папаев, Редин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. В бесковский период в 80-х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40720" y="272880"/>
            <a:ext cx="46080" cy="84240"/>
          </a:xfrm>
          <a:prstGeom prst="rect">
            <a:avLst/>
          </a:prstGeom>
          <a:noFill/>
          <a:ln w="0">
            <a:noFill/>
          </a:ln>
        </p:spPr>
        <p:txBody>
          <a:bodyPr tIns="38520" bIns="3852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ноября 1983 года. Бирмингем, Англия. 40.000 зрител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стон Вилла (обладатель Суперкубка Европы) - СПАРТАК 1-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дья: Мюльдер (Голландия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ы: Витхе(1),Черенков(46,89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тав Спартака: Дасаев,Сочнов, Поздняков, Базулев, Бубнов,Е. Кузнецов, Гладилин, Морозов, Гаврилов, Черенков, Радион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. В романцевский период в 90-х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0 марта 1991года Мадрид, Испания.90,200 зрител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ал (Мадрид) - СПАРТАК 1-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дья: Уодлл (Шотландия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ы: Бутрагеньо(10), Радченко(20,38), Шмаров(64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тав Спартака: Черчесов, Базулев, Кульков, Попов, Поздняков, О.Иванов, Шалимов, Шмаров, Попович (Бушманов, 89), Радченк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мблем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мблему и имя московскому Спартаку придумал отец-основатель этого общества Николай Старостин. Рассказывают, когда обсуждалось название, руководители долго не могли прийти к единому мнению. И тут взгляд Старостина случайно упал на лежавшую на столе книгу итальянца Раффаэлло Джованьоли - "Спартак", весьма популярную н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ре Советской власти. Предложение назвать клуб в честь предводителя восстания устроило всех, ибо, с одной стороны, отдавало античной героикой, а с другой — было вполне идеологически выдержанным. Вскоре Старостин сам набросал и логотип —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асно-белый ромбик с перечеркнутой буквой С. Правда, белая полоска внутри красного ромба шла тогда по другой диагонали, нежели сейчас. Более привычный нам вид эмблема обрела в 1949 го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1998, когда футбольная команда вышла из состава общества Спартак, в эмблему был добавлен футбольный мяч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сле основания Премьер-лиги, каждый клуб, победивший в 5-ти чемпионатах имеет право над своей эмблемой разместить золотую звез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оме тог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К «Спартак» — единственный клуб, который во время выстраивания основных механизмов организации советского первенства по футболу в предвоенные годы (1936—1941 гг.) не опускался ниже третьего места чемпионата СССР, демонстрируя высокие волевые качества игроков и новаторство в тактической области игр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2:00:23Z</dcterms:created>
  <dc:creator>Николай</dc:creator>
  <dc:description/>
  <dc:language>en-US</dc:language>
  <cp:lastModifiedBy>Ирина Петровна</cp:lastModifiedBy>
  <dcterms:modified xsi:type="dcterms:W3CDTF">2009-08-17T15:14:22Z</dcterms:modified>
  <cp:revision>7</cp:revision>
  <dc:subject/>
  <dc:title>Футбол</dc:title>
</cp:coreProperties>
</file>